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9F2-AF79-4DE3-80FA-CAFFC932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72F-13B0-4BDE-A0E8-EA49FC82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0A4-37D0-4568-97DF-78B1F769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F8D-703A-4F9D-86D7-7A48C230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4ABF-06BF-4CB3-9732-E4F8775F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25D-1990-4C04-9E6E-7BBDE1A7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0DA-8EA0-470A-BB29-3FC2FA5E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AAD-D6E4-47E4-9C55-D69FB55C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579-422D-4909-8F51-7EEBF66F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1DC-1AD7-42B2-B4E0-7C60E9BF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261-F3FC-4C8E-9821-EFCDB501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6E9-10A5-46DA-8D60-7A4E5619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9491-BA5A-478C-95D1-05F96FC47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FI-logo-final-color"/>
          <p:cNvPicPr/>
          <p:nvPr/>
        </p:nvPicPr>
        <p:blipFill>
          <a:blip r:embed="rId1"/>
          <a:stretch/>
        </p:blipFill>
        <p:spPr>
          <a:xfrm>
            <a:off x="1981080" y="1143000"/>
            <a:ext cx="518184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27"/>
          <p:cNvSpPr/>
          <p:nvPr/>
        </p:nvSpPr>
        <p:spPr>
          <a:xfrm>
            <a:off x="805680" y="1494000"/>
            <a:ext cx="75416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Title Here (Helvetica, Bold, 32 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Core/Bridging Projec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Nam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0206"/>
                </a:solidFill>
                <a:latin typeface="Arial"/>
              </a:rPr>
              <a:t>Enzyme Function Initiative (E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y Committe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30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FI-logo-final-color"/>
          <p:cNvPicPr/>
          <p:nvPr/>
        </p:nvPicPr>
        <p:blipFill>
          <a:blip r:embed="rId1"/>
          <a:stretch/>
        </p:blipFill>
        <p:spPr>
          <a:xfrm>
            <a:off x="76320" y="190440"/>
            <a:ext cx="547560" cy="5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imark_bold"/>
          <p:cNvPicPr/>
          <p:nvPr/>
        </p:nvPicPr>
        <p:blipFill>
          <a:blip r:embed="rId2"/>
          <a:stretch/>
        </p:blipFill>
        <p:spPr>
          <a:xfrm>
            <a:off x="8736120" y="235080"/>
            <a:ext cx="338040" cy="438120"/>
          </a:xfrm>
          <a:prstGeom prst="rect">
            <a:avLst/>
          </a:prstGeom>
          <a:ln w="0">
            <a:noFill/>
          </a:ln>
        </p:spPr>
      </p:pic>
      <p:cxnSp>
        <p:nvCxnSpPr>
          <p:cNvPr id="45" name="Straight Arrow Connector 6"/>
          <p:cNvCxnSpPr/>
          <p:nvPr/>
        </p:nvCxnSpPr>
        <p:spPr>
          <a:xfrm flipV="1">
            <a:off x="8076240" y="837720"/>
            <a:ext cx="5338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" name="TextBox 7"/>
          <p:cNvSpPr/>
          <p:nvPr/>
        </p:nvSpPr>
        <p:spPr>
          <a:xfrm>
            <a:off x="6477120" y="13716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university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32"/>
          <p:cNvSpPr/>
          <p:nvPr/>
        </p:nvSpPr>
        <p:spPr>
          <a:xfrm>
            <a:off x="1420560" y="228600"/>
            <a:ext cx="63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our slide title here (Helvetica, Bold, 24 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7:03:55Z</dcterms:created>
  <dc:creator>John Gerlt</dc:creator>
  <dc:description/>
  <dc:language>en-US</dc:language>
  <cp:lastModifiedBy>John Gerlt</cp:lastModifiedBy>
  <dcterms:modified xsi:type="dcterms:W3CDTF">2011-10-09T14:37:13Z</dcterms:modified>
  <cp:revision>10</cp:revision>
  <dc:subject/>
  <dc:title>PowerPoint Presentation</dc:title>
</cp:coreProperties>
</file>